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CEE5-8A60-4C49-AAD1-2CE70F9A7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5B1C-1EF8-4782-BC6A-F33D5CB2B9B0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DB18-5C74-47AE-AAC3-B1A11B0E6DFC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6445-6CC4-48CC-B215-E508111C8E3B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3FEE-CF6D-4149-97AC-724F9579C6DA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1FFE-4C16-4A42-989E-F056598201EA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BD0B-2E3D-4824-8F06-056936228B3C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8CDE-84AC-471C-A92A-9F4D5A51801C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2E73B-CEC2-47DF-BF8B-C320E0C7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0A444-9205-4C12-B0A9-4B9DE765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E0A3B-3E08-4C31-9771-6AD4B007A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1A9F5-1572-413D-B299-612846DA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3648-86EF-4A13-8D15-28071A72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0F5E-4030-4284-BB59-11BDFF1F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EA1C-9D44-43DF-84ED-01C6F9E4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A8CD-04B5-4624-B805-1D4590B5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9294-F0D5-4A30-985A-12DA5FBA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94AC-658B-447F-9CBF-85E3A739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E53F-25E2-40E4-B1EA-1B74D80E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5DF71-7354-407C-9DF1-1CDEE55F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59FC-6ADF-4755-B097-4BCA4041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4EFB-0110-4041-A7AE-E72AAFD7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D497-891E-4970-B852-95E4C768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2777-5B93-4328-B0B1-4B4B71C6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3D30-F148-4D6D-9285-D69BF1A3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53EA0-08EA-40C5-88FB-851959B6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9D483-DAD0-475C-AD2F-64D648EF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454FD-1ABD-4DF5-AE34-5EB3323E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EBC3C-0B68-461A-B431-49266C7A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7BAE4-F059-4938-81EC-5FCC5BE8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A6B91-876E-4882-BF4B-F90C076D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126BE-A11C-43DF-9579-3A0DEAD7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74B3-DE0F-4375-8007-E5DAF9FB235A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176E-61F8-4C90-A56D-C9EBEAF2AFD0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5"/>
          <p:cNvSpPr/>
          <p:nvPr/>
        </p:nvSpPr>
        <p:spPr>
          <a:xfrm>
            <a:off x="2822760" y="1035000"/>
            <a:ext cx="25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 u="sng">
                <a:solidFill>
                  <a:srgbClr val="000066"/>
                </a:solidFill>
                <a:uFillTx/>
                <a:latin typeface="Arial"/>
              </a:rPr>
              <a:t>Chương </a:t>
            </a:r>
            <a:r>
              <a:rPr b="1" lang="en-US" sz="3600" spc="-1" strike="noStrike" u="sng">
                <a:solidFill>
                  <a:srgbClr val="000066"/>
                </a:solidFill>
                <a:uFillTx/>
                <a:latin typeface="Arial"/>
              </a:rPr>
              <a:t>6</a:t>
            </a:r>
            <a:r>
              <a:rPr b="1" lang="vi-VN" sz="3600" spc="-1" strike="noStrike" u="sng">
                <a:solidFill>
                  <a:srgbClr val="000066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4648320" y="4876920"/>
            <a:ext cx="4038480" cy="53316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3300"/>
                </a:solidFill>
                <a:latin typeface="Arial"/>
              </a:rPr>
              <a:t>KHOA QUẢN TRỊ KINH DOANH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5715000" y="5562720"/>
            <a:ext cx="2971800" cy="53316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33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V</a:t>
            </a:r>
            <a:r>
              <a:rPr b="1" lang="vi-VN" sz="2000" spc="-1" strike="noStrike">
                <a:solidFill>
                  <a:srgbClr val="003300"/>
                </a:solidFill>
                <a:latin typeface="Arial"/>
              </a:rPr>
              <a:t>. LÊ THỊ HẠNH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2209680" y="220968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000" spc="-1" strike="noStrike">
                <a:solidFill>
                  <a:srgbClr val="ffffff"/>
                </a:solidFill>
                <a:latin typeface="Arial"/>
              </a:rPr>
              <a:t>ĐÁNH GIÁ KẾT QUẢ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000" spc="-1" strike="noStrike">
                <a:solidFill>
                  <a:srgbClr val="ffffff"/>
                </a:solidFill>
                <a:latin typeface="Arial"/>
              </a:rPr>
              <a:t>THỰC HIỆN CÔNG VIỆC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9"/>
          <p:cNvSpPr/>
          <p:nvPr/>
        </p:nvSpPr>
        <p:spPr>
          <a:xfrm>
            <a:off x="304920" y="2844720"/>
            <a:ext cx="7543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Phương pháp chấm điểm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Phương pháp phỏng vấ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Phương pháp lưu giữ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Phương pháp so sánh cặp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Phương pháp xếp hạng luân phiê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Phương pháp quản trị mục tiêu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Phương pháp định lượng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Rectangle 63"/>
          <p:cNvSpPr/>
          <p:nvPr/>
        </p:nvSpPr>
        <p:spPr>
          <a:xfrm>
            <a:off x="-304920" y="76212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ÁNH GIÁ KẾT QUẢ THỰC HIỆN CÔNG VIỆC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2" name="Rectangle 68"/>
          <p:cNvSpPr/>
          <p:nvPr/>
        </p:nvSpPr>
        <p:spPr>
          <a:xfrm>
            <a:off x="35053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3" name="AutoShape 57"/>
          <p:cNvSpPr/>
          <p:nvPr/>
        </p:nvSpPr>
        <p:spPr>
          <a:xfrm>
            <a:off x="685800" y="1981080"/>
            <a:ext cx="640080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LỰA CHỌN PHƯƠNG THỨC ĐÁNH GIÁ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-304920" y="380880"/>
            <a:ext cx="9829800" cy="1450080"/>
            <a:chOff x="-304920" y="380880"/>
            <a:chExt cx="9829800" cy="1450080"/>
          </a:xfrm>
        </p:grpSpPr>
        <p:sp>
          <p:nvSpPr>
            <p:cNvPr id="185" name="Rectangle 5"/>
            <p:cNvSpPr/>
            <p:nvPr/>
          </p:nvSpPr>
          <p:spPr>
            <a:xfrm>
              <a:off x="-304920" y="762120"/>
              <a:ext cx="982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ĐÁNH GIÁ THỰC HIỆN CÔNG VIỆ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6" name="Rectangle 19"/>
            <p:cNvSpPr/>
            <p:nvPr/>
          </p:nvSpPr>
          <p:spPr>
            <a:xfrm>
              <a:off x="3581280" y="3808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</a:t>
              </a:r>
              <a:r>
                <a:rPr b="1" lang="en-US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6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87" name="AutoShape 57"/>
          <p:cNvSpPr/>
          <p:nvPr/>
        </p:nvSpPr>
        <p:spPr>
          <a:xfrm>
            <a:off x="457200" y="1600200"/>
            <a:ext cx="57913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LỰA CHỌN NGƯỜI  ĐÁNH GIÁ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Người tham gia đánh giá:</a:t>
            </a: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66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Thường là người lãnh đạo, giám sát trực tiếp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66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Một số nhân viên, cán bộ, cá nhân người lao động, khách hàng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66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Kết hợp các ý kiến đánh giá để có bản nhận xét chung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Đào tạo người đánh giá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66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Cung cấp các văn bản hướng dẫ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66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Tổ chức các lớp tập huấ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7"/>
          <p:cNvSpPr/>
          <p:nvPr/>
        </p:nvSpPr>
        <p:spPr>
          <a:xfrm>
            <a:off x="685800" y="1752480"/>
            <a:ext cx="632448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QUY TRÌNH ĐÁNH GIÁ CỦA CÔNG VIỆ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AutoShape 18"/>
          <p:cNvSpPr/>
          <p:nvPr/>
        </p:nvSpPr>
        <p:spPr>
          <a:xfrm>
            <a:off x="685800" y="2438280"/>
            <a:ext cx="5562720" cy="45720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"/>
              </a:rPr>
              <a:t>2.4. ĐO LƯỜNG HIỆU QUẢ CÔNG VIỆC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533520" y="3060720"/>
            <a:ext cx="830556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vi-VN" sz="2600" spc="-1" strike="noStrike">
                <a:solidFill>
                  <a:srgbClr val="ff0000"/>
                </a:solidFill>
                <a:latin typeface="Arial"/>
              </a:rPr>
              <a:t>Thu thập thông tin về kết quả thực hiện công việc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Quan sát và kiểm tra tiến trình làm việc của NV.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Tính khối lượng hoàn thành công việc.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Theo dõi ngày công, nội quy, kỷ luật của nhân viên.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Phỏng vấn, tham khảo ý kiến người khác.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Ghi lại những sự kiện quan trọng về nhân viên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Rectangle 63"/>
          <p:cNvSpPr/>
          <p:nvPr/>
        </p:nvSpPr>
        <p:spPr>
          <a:xfrm>
            <a:off x="-304920" y="76212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ÁNH GIÁ KẾT QUẢ THỰC HIỆN CÔNG VIỆC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3" name="Rectangle 68"/>
          <p:cNvSpPr/>
          <p:nvPr/>
        </p:nvSpPr>
        <p:spPr>
          <a:xfrm>
            <a:off x="35053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7"/>
          <p:cNvSpPr/>
          <p:nvPr/>
        </p:nvSpPr>
        <p:spPr>
          <a:xfrm>
            <a:off x="762120" y="1752480"/>
            <a:ext cx="632448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QUY TRÌNH ĐÁNH GIÁ CỦA CÔNG VIỆ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AutoShape 18"/>
          <p:cNvSpPr/>
          <p:nvPr/>
        </p:nvSpPr>
        <p:spPr>
          <a:xfrm>
            <a:off x="762120" y="2438280"/>
            <a:ext cx="5333760" cy="45720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"/>
              </a:rPr>
              <a:t>2.5. ĐÁNH GIÁ KẾT QUẢ THỰC HIỆN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914400" y="3048120"/>
            <a:ext cx="76201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vi-VN" sz="2600" spc="-1" strike="noStrike">
                <a:solidFill>
                  <a:srgbClr val="ff0000"/>
                </a:solidFill>
                <a:latin typeface="Arial"/>
              </a:rPr>
              <a:t>Dựa trên những tiêu chí đối chiếu kết quả thực hiện của nhân viên với bản tiêu chuẩn công việc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Mức độ hoàn thành công việc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hái độ thực hiện của nhân viê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Kỹ năng làm việc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riển vọng phát triể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Rectangle 63"/>
          <p:cNvSpPr/>
          <p:nvPr/>
        </p:nvSpPr>
        <p:spPr>
          <a:xfrm>
            <a:off x="-304920" y="76212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ÁNH GIÁ KẾT QUẢ THỰC HIỆN CÔNG VIỆC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Rectangle 68"/>
          <p:cNvSpPr/>
          <p:nvPr/>
        </p:nvSpPr>
        <p:spPr>
          <a:xfrm>
            <a:off x="35053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7"/>
          <p:cNvSpPr/>
          <p:nvPr/>
        </p:nvSpPr>
        <p:spPr>
          <a:xfrm>
            <a:off x="609480" y="1828800"/>
            <a:ext cx="7543800" cy="825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HỮNG LỖI CẦN TRÁNH KHI ĐÁNH GIÁ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ẾT QUẢ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ÔNG VIỆC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533520" y="2743200"/>
            <a:ext cx="72388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Bản tiêu chuẩn đánh giá không rõ ràng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Quá dễ hay quá khắt khe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hiếu tính công bằng/ thiên vị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Dựa vào thông tin từ trí nhớ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Xu hướng bình quâ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hành kiế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Ảnh hưởng sự kiện gần nhất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Định kiến do tập quán văn hóa/ giới tính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Rectangle 63"/>
          <p:cNvSpPr/>
          <p:nvPr/>
        </p:nvSpPr>
        <p:spPr>
          <a:xfrm>
            <a:off x="-304920" y="76212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ÁNH GIÁ KẾT QUẢ THỰC HIỆN CÔNG VIỆC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Rectangle 68"/>
          <p:cNvSpPr/>
          <p:nvPr/>
        </p:nvSpPr>
        <p:spPr>
          <a:xfrm>
            <a:off x="35053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7"/>
          <p:cNvSpPr/>
          <p:nvPr/>
        </p:nvSpPr>
        <p:spPr>
          <a:xfrm>
            <a:off x="685800" y="1600200"/>
            <a:ext cx="601992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HỎNG VẤN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ẾT QUẢ ĐÁNH GIÁ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4" name="Rectangle 18"/>
          <p:cNvSpPr/>
          <p:nvPr/>
        </p:nvSpPr>
        <p:spPr>
          <a:xfrm>
            <a:off x="533520" y="220968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vi-VN" sz="2600" spc="-1" strike="noStrike" u="sng">
                <a:solidFill>
                  <a:srgbClr val="ff0000"/>
                </a:solidFill>
                <a:uFillTx/>
                <a:latin typeface="Arial"/>
              </a:rPr>
              <a:t>Lợi ích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Thống nhất với nhân viên về kết quả đánh giá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Đưa ra phản hồi giúp nhân viên có kinh nghiệm.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Hiểu những khó khăn của nhân viên trong công việc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Lên kế hoạch cho mục tiêu công việc s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ắ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p tới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vi-VN" sz="2600" spc="-1" strike="noStrike" u="sng">
                <a:solidFill>
                  <a:srgbClr val="ff0000"/>
                </a:solidFill>
                <a:uFillTx/>
                <a:latin typeface="Arial"/>
              </a:rPr>
              <a:t>Các bước thực hiện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Mở đầu.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Thực hiện phỏng vấn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500" spc="-1" strike="noStrike">
                <a:solidFill>
                  <a:srgbClr val="003300"/>
                </a:solidFill>
                <a:latin typeface="Arial"/>
                <a:ea typeface="Arial"/>
              </a:rPr>
              <a:t>Kết thúc</a:t>
            </a:r>
            <a:endParaRPr b="0" lang="en-US" sz="25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5" name="Rectangle 63"/>
          <p:cNvSpPr/>
          <p:nvPr/>
        </p:nvSpPr>
        <p:spPr>
          <a:xfrm>
            <a:off x="-304920" y="76212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ÁNH GIÁ KẾT QUẢ THỰC HIỆN CÔNG VIỆC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Rectangle 68"/>
          <p:cNvSpPr/>
          <p:nvPr/>
        </p:nvSpPr>
        <p:spPr>
          <a:xfrm>
            <a:off x="35053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09480" y="2361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600" spc="-1" strike="noStrike">
                <a:solidFill>
                  <a:srgbClr val="ff0000"/>
                </a:solidFill>
                <a:latin typeface="Arial"/>
              </a:rPr>
              <a:t>Có 3 hình thức phỏng vấn chính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ỏa mãn- thăng tiế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ỏa mãn- không thăng tiế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ông thỏa mãn- thay đổi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600" spc="-1" strike="noStrike">
                <a:solidFill>
                  <a:srgbClr val="ff0000"/>
                </a:solidFill>
                <a:latin typeface="Arial"/>
              </a:rPr>
              <a:t>Các lỗi cần tránh với nhà quản lý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ông có khả năng phê bình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ông có khả năng cung cấp thông tin phản hồi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ông biết ccách phê phán các sự việc, vấn đề cụ thề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8" name="Rectangle 63"/>
          <p:cNvSpPr/>
          <p:nvPr/>
        </p:nvSpPr>
        <p:spPr>
          <a:xfrm>
            <a:off x="-304920" y="76212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ÁNH GIÁ KẾT QUẢ THỰC HIỆN CÔNG VIỆC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Rectangle 68"/>
          <p:cNvSpPr/>
          <p:nvPr/>
        </p:nvSpPr>
        <p:spPr>
          <a:xfrm>
            <a:off x="35053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609480" y="1752480"/>
            <a:ext cx="59436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HỎNG VẤN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ẾT QUẢ ĐÁNH GIÁ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95480" y="6172200"/>
            <a:ext cx="2667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3300"/>
                </a:solidFill>
                <a:latin typeface="Arial"/>
              </a:rPr>
              <a:t>*THE END*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95480" y="6172200"/>
            <a:ext cx="2819520" cy="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000" spc="-1" strike="noStrike">
                <a:solidFill>
                  <a:srgbClr val="ff0000"/>
                </a:solidFill>
                <a:latin typeface="Arial"/>
              </a:rPr>
              <a:t>TÀI LIỆU THAM KHẢO</a:t>
            </a:r>
            <a:br>
              <a:rPr sz="4000"/>
            </a:br>
            <a:r>
              <a:rPr b="1" lang="vi-VN" sz="4000" spc="-1" strike="noStrike">
                <a:solidFill>
                  <a:srgbClr val="ff0000"/>
                </a:solidFill>
                <a:latin typeface="Arial"/>
              </a:rPr>
              <a:t>*********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388620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000" spc="-1" strike="noStrike">
                <a:solidFill>
                  <a:srgbClr val="003300"/>
                </a:solidFill>
                <a:latin typeface="Arial"/>
              </a:rPr>
              <a:t>Ts. Trần Kim Dung</a:t>
            </a:r>
            <a:r>
              <a:rPr b="0" lang="vi-VN" sz="3000" spc="-1" strike="noStrike">
                <a:solidFill>
                  <a:srgbClr val="003300"/>
                </a:solidFill>
                <a:latin typeface="Arial"/>
              </a:rPr>
              <a:t>, gíao trình QTNNL, NXB thống kê – 2006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000" spc="-1" strike="noStrike">
                <a:solidFill>
                  <a:srgbClr val="003300"/>
                </a:solidFill>
                <a:latin typeface="Arial"/>
              </a:rPr>
              <a:t>Ts. Nguyễn Ngọc Quân và Ths Nguyễn Văn Điền</a:t>
            </a:r>
            <a:r>
              <a:rPr b="0" lang="vi-VN" sz="3000" spc="-1" strike="noStrike">
                <a:solidFill>
                  <a:srgbClr val="003300"/>
                </a:solidFill>
                <a:latin typeface="Arial"/>
              </a:rPr>
              <a:t>, giáo trình QTNNL, NXB trường ĐH Kinh Tế Quốc Dân- 2007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000" spc="-1" strike="noStrike">
                <a:solidFill>
                  <a:srgbClr val="003300"/>
                </a:solidFill>
                <a:latin typeface="Arial"/>
              </a:rPr>
              <a:t>Một số tài liệu tham khảo khác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5"/>
          <p:cNvSpPr/>
          <p:nvPr/>
        </p:nvSpPr>
        <p:spPr>
          <a:xfrm>
            <a:off x="685800" y="1981080"/>
            <a:ext cx="373392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MỤC TIÊU CHƯƠNG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Rectangle 25"/>
          <p:cNvSpPr/>
          <p:nvPr/>
        </p:nvSpPr>
        <p:spPr>
          <a:xfrm>
            <a:off x="1066680" y="2819520"/>
            <a:ext cx="723924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Hiểu mục đích và vai trò của h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oạt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động đánh giá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Phương pháp đánh giá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Quy trình đánh giá nhân viê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Giải pháp nâng cao hiệu quả đánh giá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-304920" y="441360"/>
            <a:ext cx="9829800" cy="1450080"/>
            <a:chOff x="-304920" y="441360"/>
            <a:chExt cx="9829800" cy="1450080"/>
          </a:xfrm>
        </p:grpSpPr>
        <p:sp>
          <p:nvSpPr>
            <p:cNvPr id="122" name="Rectangle 5"/>
            <p:cNvSpPr/>
            <p:nvPr/>
          </p:nvSpPr>
          <p:spPr>
            <a:xfrm>
              <a:off x="-304920" y="822600"/>
              <a:ext cx="982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ĐÁNH GIÁ THỰC HIỆN CÔNG VIỆ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3581280" y="44136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</a:t>
              </a:r>
              <a:r>
                <a:rPr b="1" lang="en-US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6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160" y="29714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Đánh giá một cách có hệ thống năng suất và hiệu quả công việc của người lao động; giúp nhà quản lý đưa ra các quyết định nhân sự đúng đắn”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-304920" y="441360"/>
            <a:ext cx="9829800" cy="1450080"/>
            <a:chOff x="-304920" y="441360"/>
            <a:chExt cx="9829800" cy="1450080"/>
          </a:xfrm>
        </p:grpSpPr>
        <p:sp>
          <p:nvSpPr>
            <p:cNvPr id="126" name="Rectangle 5"/>
            <p:cNvSpPr/>
            <p:nvPr/>
          </p:nvSpPr>
          <p:spPr>
            <a:xfrm>
              <a:off x="-304920" y="822600"/>
              <a:ext cx="982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ĐÁNH GIÁ THỰC HIỆN CÔNG VIỆ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3581280" y="44136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</a:t>
              </a:r>
              <a:r>
                <a:rPr b="1" lang="en-US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6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8" name="Rectangle 53"/>
          <p:cNvSpPr/>
          <p:nvPr/>
        </p:nvSpPr>
        <p:spPr>
          <a:xfrm>
            <a:off x="609480" y="1905120"/>
            <a:ext cx="327672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1. KHÁI NIỆM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4"/>
          <p:cNvSpPr/>
          <p:nvPr/>
        </p:nvSpPr>
        <p:spPr>
          <a:xfrm>
            <a:off x="-76320" y="2602080"/>
            <a:ext cx="8839440" cy="38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1" lang="vi-VN" sz="2600" spc="-1" strike="noStrike">
                <a:solidFill>
                  <a:srgbClr val="009900"/>
                </a:solidFill>
                <a:latin typeface="Arial"/>
                <a:ea typeface="Arial"/>
              </a:rPr>
              <a:t>Là công cụ phát triển nhân viên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Củng cố, cải thiện và duy trì thành tích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Xác định mục tiêu nghề nghiệp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Xác định nhu cầu đào tạo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vi-VN" sz="2600" spc="-1" strike="noStrike">
                <a:solidFill>
                  <a:srgbClr val="009900"/>
                </a:solidFill>
                <a:latin typeface="Arial"/>
                <a:ea typeface="Arial"/>
              </a:rPr>
              <a:t>Là công cụ phát triển hành chính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Kết nối lương, thưởng với thành tích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Đánh giá chính sách và chương trình NNL phù hợp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AutoShape 57"/>
          <p:cNvSpPr/>
          <p:nvPr/>
        </p:nvSpPr>
        <p:spPr>
          <a:xfrm>
            <a:off x="533520" y="1905120"/>
            <a:ext cx="5410080" cy="53316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MỤC TIÊU CỦA VIỆC ĐÁNH GIÁ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Rectangle 63"/>
          <p:cNvSpPr/>
          <p:nvPr/>
        </p:nvSpPr>
        <p:spPr>
          <a:xfrm>
            <a:off x="-304920" y="76212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ÁNH GIÁ KẾT QUẢ THỰC HIỆN CÔNG VIỆC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Rectangle 68"/>
          <p:cNvSpPr/>
          <p:nvPr/>
        </p:nvSpPr>
        <p:spPr>
          <a:xfrm>
            <a:off x="35053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ff3300"/>
                </a:solidFill>
                <a:uFillTx/>
                <a:latin typeface="Arial"/>
              </a:rPr>
              <a:t>Đối với tổ chức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Đánh giá năng lực của nhân viên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Thống nhất mục tiêu sắp tới với nhân viên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Đưa ra quyết định nhân sự đúng đắn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Có chương trình hỗ trợ phù hợp nâng cao chất lượng NNL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ff3300"/>
                </a:solidFill>
                <a:uFillTx/>
                <a:latin typeface="Arial"/>
              </a:rPr>
              <a:t>Đối với cá nhân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Nhận biết điểm mạnh và điểm yếu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Nắm được mục tiêu và yêu cầu công việc sắp tới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Có đề nghị cải thiện điều kiện làm việc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Được cố vấn về đào tạo và hướng nghiệp để nâng cao hiệu quả công việc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-304920" y="380880"/>
            <a:ext cx="9829800" cy="1450080"/>
            <a:chOff x="-304920" y="380880"/>
            <a:chExt cx="9829800" cy="1450080"/>
          </a:xfrm>
        </p:grpSpPr>
        <p:sp>
          <p:nvSpPr>
            <p:cNvPr id="136" name="Rectangle 5"/>
            <p:cNvSpPr/>
            <p:nvPr/>
          </p:nvSpPr>
          <p:spPr>
            <a:xfrm>
              <a:off x="-304920" y="762120"/>
              <a:ext cx="982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ĐÁNH GIÁ THỰC HIỆN CÔNG VIỆ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3581280" y="3808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</a:t>
              </a:r>
              <a:r>
                <a:rPr b="1" lang="en-US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6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648320" y="2286000"/>
            <a:ext cx="0" cy="426708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AutoShape 57"/>
          <p:cNvSpPr/>
          <p:nvPr/>
        </p:nvSpPr>
        <p:spPr>
          <a:xfrm>
            <a:off x="457200" y="1676520"/>
            <a:ext cx="5410080" cy="53316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3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LỢI ÍC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CỦA VIỆC ĐÁNH GIÁ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57"/>
          <p:cNvSpPr/>
          <p:nvPr/>
        </p:nvSpPr>
        <p:spPr>
          <a:xfrm>
            <a:off x="457200" y="1600200"/>
            <a:ext cx="57913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QUY TRÌNH ĐÁNH GIÁ CÔNG VIỆ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-304920" y="380880"/>
            <a:ext cx="9829800" cy="1450080"/>
            <a:chOff x="-304920" y="380880"/>
            <a:chExt cx="9829800" cy="1450080"/>
          </a:xfrm>
        </p:grpSpPr>
        <p:sp>
          <p:nvSpPr>
            <p:cNvPr id="142" name="Rectangle 5"/>
            <p:cNvSpPr/>
            <p:nvPr/>
          </p:nvSpPr>
          <p:spPr>
            <a:xfrm>
              <a:off x="-304920" y="762120"/>
              <a:ext cx="982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ĐÁNH GIÁ THỰC HIỆN CÔNG VIỆ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3" name="Rectangle 19"/>
            <p:cNvSpPr/>
            <p:nvPr/>
          </p:nvSpPr>
          <p:spPr>
            <a:xfrm>
              <a:off x="3581280" y="3808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</a:t>
              </a:r>
              <a:r>
                <a:rPr b="1" lang="en-US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6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44" name="Group 63"/>
          <p:cNvGrpSpPr/>
          <p:nvPr/>
        </p:nvGrpSpPr>
        <p:grpSpPr>
          <a:xfrm>
            <a:off x="533520" y="2743200"/>
            <a:ext cx="8001000" cy="3505320"/>
            <a:chOff x="533520" y="2743200"/>
            <a:chExt cx="8001000" cy="3505320"/>
          </a:xfrm>
        </p:grpSpPr>
        <p:sp>
          <p:nvSpPr>
            <p:cNvPr id="145" name="Rectangle 64"/>
            <p:cNvSpPr/>
            <p:nvPr/>
          </p:nvSpPr>
          <p:spPr>
            <a:xfrm>
              <a:off x="4038480" y="2819520"/>
              <a:ext cx="2819520" cy="6858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Lựa chọn phương pháp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Đánh giá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6" name="Rectangle 65"/>
            <p:cNvSpPr/>
            <p:nvPr/>
          </p:nvSpPr>
          <p:spPr>
            <a:xfrm>
              <a:off x="533520" y="2819520"/>
              <a:ext cx="2819160" cy="6858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Thiết lập tiêu chuẩn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đánh giá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7" name="Rectangle 66"/>
            <p:cNvSpPr/>
            <p:nvPr/>
          </p:nvSpPr>
          <p:spPr>
            <a:xfrm>
              <a:off x="5334120" y="3657600"/>
              <a:ext cx="2819160" cy="6858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Lựa chọn và huấn luyện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Kỹ năng đánh giá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8" name="Rectangle 67"/>
            <p:cNvSpPr/>
            <p:nvPr/>
          </p:nvSpPr>
          <p:spPr>
            <a:xfrm>
              <a:off x="1905120" y="3657600"/>
              <a:ext cx="2819160" cy="6858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Đưa ra tiêu chí, nội dụng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phạm vi đánh giá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9" name="Rectangle 68"/>
            <p:cNvSpPr/>
            <p:nvPr/>
          </p:nvSpPr>
          <p:spPr>
            <a:xfrm>
              <a:off x="609480" y="4572000"/>
              <a:ext cx="2819520" cy="6858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Thực hiện đánh giá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0" name="Rectangle 69"/>
            <p:cNvSpPr/>
            <p:nvPr/>
          </p:nvSpPr>
          <p:spPr>
            <a:xfrm>
              <a:off x="4114800" y="4572000"/>
              <a:ext cx="2819520" cy="6858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Thảo luận kết quả 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Đánh giá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1" name="Rectangle 70"/>
            <p:cNvSpPr/>
            <p:nvPr/>
          </p:nvSpPr>
          <p:spPr>
            <a:xfrm>
              <a:off x="5715000" y="5562720"/>
              <a:ext cx="2819520" cy="6858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Điều chỉnh và công bố 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kết quả mới cho NV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2" name="Line 71"/>
            <p:cNvSpPr/>
            <p:nvPr/>
          </p:nvSpPr>
          <p:spPr>
            <a:xfrm>
              <a:off x="3352680" y="3124440"/>
              <a:ext cx="68580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3429000" y="4953240"/>
              <a:ext cx="68580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154" name="Group 73"/>
            <p:cNvGrpSpPr/>
            <p:nvPr/>
          </p:nvGrpSpPr>
          <p:grpSpPr>
            <a:xfrm>
              <a:off x="6858000" y="3124440"/>
              <a:ext cx="457200" cy="533160"/>
              <a:chOff x="6858000" y="3124440"/>
              <a:chExt cx="457200" cy="533160"/>
            </a:xfrm>
          </p:grpSpPr>
          <p:sp>
            <p:nvSpPr>
              <p:cNvPr id="155" name="Line 74"/>
              <p:cNvSpPr/>
              <p:nvPr/>
            </p:nvSpPr>
            <p:spPr>
              <a:xfrm>
                <a:off x="7315200" y="3124440"/>
                <a:ext cx="0" cy="53316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6" name="Line 75"/>
              <p:cNvSpPr/>
              <p:nvPr/>
            </p:nvSpPr>
            <p:spPr>
              <a:xfrm>
                <a:off x="6858000" y="312444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6"/>
            <p:cNvGrpSpPr/>
            <p:nvPr/>
          </p:nvGrpSpPr>
          <p:grpSpPr>
            <a:xfrm>
              <a:off x="6934320" y="5029200"/>
              <a:ext cx="457200" cy="533160"/>
              <a:chOff x="6934320" y="5029200"/>
              <a:chExt cx="457200" cy="533160"/>
            </a:xfrm>
          </p:grpSpPr>
          <p:sp>
            <p:nvSpPr>
              <p:cNvPr id="158" name="Line 77"/>
              <p:cNvSpPr/>
              <p:nvPr/>
            </p:nvSpPr>
            <p:spPr>
              <a:xfrm>
                <a:off x="7391520" y="5029200"/>
                <a:ext cx="0" cy="53316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9" name="Line 78"/>
              <p:cNvSpPr/>
              <p:nvPr/>
            </p:nvSpPr>
            <p:spPr>
              <a:xfrm>
                <a:off x="6934320" y="502920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160" name="Line 79"/>
            <p:cNvSpPr/>
            <p:nvPr/>
          </p:nvSpPr>
          <p:spPr>
            <a:xfrm flipH="1">
              <a:off x="4724280" y="3962520"/>
              <a:ext cx="60984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161" name="Group 80"/>
            <p:cNvGrpSpPr/>
            <p:nvPr/>
          </p:nvGrpSpPr>
          <p:grpSpPr>
            <a:xfrm>
              <a:off x="1295280" y="4038840"/>
              <a:ext cx="609840" cy="533160"/>
              <a:chOff x="1295280" y="4038840"/>
              <a:chExt cx="609840" cy="533160"/>
            </a:xfrm>
          </p:grpSpPr>
          <p:sp>
            <p:nvSpPr>
              <p:cNvPr id="162" name="Line 81"/>
              <p:cNvSpPr/>
              <p:nvPr/>
            </p:nvSpPr>
            <p:spPr>
              <a:xfrm>
                <a:off x="1295280" y="4038840"/>
                <a:ext cx="0" cy="53316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63" name="Line 82"/>
              <p:cNvSpPr/>
              <p:nvPr/>
            </p:nvSpPr>
            <p:spPr>
              <a:xfrm>
                <a:off x="1295280" y="4038840"/>
                <a:ext cx="60984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164" name="Rectangle 83"/>
            <p:cNvSpPr/>
            <p:nvPr/>
          </p:nvSpPr>
          <p:spPr>
            <a:xfrm>
              <a:off x="3583440" y="2743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5" name="Rectangle 84"/>
            <p:cNvSpPr/>
            <p:nvPr/>
          </p:nvSpPr>
          <p:spPr>
            <a:xfrm>
              <a:off x="7545600" y="281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6" name="Rectangle 85"/>
            <p:cNvSpPr/>
            <p:nvPr/>
          </p:nvSpPr>
          <p:spPr>
            <a:xfrm>
              <a:off x="4878720" y="3505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7" name="Rectangle 86"/>
            <p:cNvSpPr/>
            <p:nvPr/>
          </p:nvSpPr>
          <p:spPr>
            <a:xfrm>
              <a:off x="916200" y="3810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8" name="Rectangle 87"/>
            <p:cNvSpPr/>
            <p:nvPr/>
          </p:nvSpPr>
          <p:spPr>
            <a:xfrm>
              <a:off x="3659400" y="4496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9" name="Rectangle 88"/>
            <p:cNvSpPr/>
            <p:nvPr/>
          </p:nvSpPr>
          <p:spPr>
            <a:xfrm>
              <a:off x="7545600" y="4724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0033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80880" y="2514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Dựa vào bảng hệ thống thông tin</a:t>
            </a:r>
            <a:r>
              <a:rPr b="0" lang="vi-VN" sz="2600" spc="-1" strike="noStrike">
                <a:solidFill>
                  <a:srgbClr val="009900"/>
                </a:solidFill>
                <a:latin typeface="Arial"/>
              </a:rPr>
              <a:t> :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bản mô tả, bản yêu cầu và bản tiêu chuẩn công việ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3 yếu tố cơ bản của hệ thống đánh giá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ác tiêu chuẩn thực hiệ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Đo lường thực hiện theo tiêu thức trong tiêu chuẩn đánh giá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ông tin phản hồi giữa người quản lý và lao động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Chuẩn bị biểu mẫu đánh giá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-304920" y="380880"/>
            <a:ext cx="9829800" cy="1450080"/>
            <a:chOff x="-304920" y="380880"/>
            <a:chExt cx="9829800" cy="1450080"/>
          </a:xfrm>
        </p:grpSpPr>
        <p:sp>
          <p:nvSpPr>
            <p:cNvPr id="172" name="Rectangle 5"/>
            <p:cNvSpPr/>
            <p:nvPr/>
          </p:nvSpPr>
          <p:spPr>
            <a:xfrm>
              <a:off x="-304920" y="762120"/>
              <a:ext cx="982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ĐÁNH GIÁ THỰC HIỆN CÔNG VIỆ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3" name="Rectangle 19"/>
            <p:cNvSpPr/>
            <p:nvPr/>
          </p:nvSpPr>
          <p:spPr>
            <a:xfrm>
              <a:off x="3581280" y="3808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</a:t>
              </a:r>
              <a:r>
                <a:rPr b="1" lang="en-US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6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74" name="AutoShape 57"/>
          <p:cNvSpPr/>
          <p:nvPr/>
        </p:nvSpPr>
        <p:spPr>
          <a:xfrm>
            <a:off x="457200" y="1828800"/>
            <a:ext cx="60199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THIẾT LẬP HỆ THỐNG ĐÁNH GIÁ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43000" y="2361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3300"/>
                </a:solidFill>
                <a:latin typeface="Arial"/>
              </a:rPr>
              <a:t>Tính phù hợp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3300"/>
                </a:solidFill>
                <a:latin typeface="Arial"/>
              </a:rPr>
              <a:t>Tính tin cậy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3300"/>
                </a:solidFill>
                <a:latin typeface="Arial"/>
              </a:rPr>
              <a:t>Tính thực tiễ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3300"/>
                </a:solidFill>
                <a:latin typeface="Arial"/>
              </a:rPr>
              <a:t>Tính được chấp nhậ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3300"/>
                </a:solidFill>
                <a:latin typeface="Arial"/>
              </a:rPr>
              <a:t>Tính nhạy cảm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-304920" y="380880"/>
            <a:ext cx="9829800" cy="1450080"/>
            <a:chOff x="-304920" y="380880"/>
            <a:chExt cx="9829800" cy="1450080"/>
          </a:xfrm>
        </p:grpSpPr>
        <p:sp>
          <p:nvSpPr>
            <p:cNvPr id="177" name="Rectangle 5"/>
            <p:cNvSpPr/>
            <p:nvPr/>
          </p:nvSpPr>
          <p:spPr>
            <a:xfrm>
              <a:off x="-304920" y="762120"/>
              <a:ext cx="982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ĐÁNH GIÁ THỰC HIỆN CÔNG VIỆ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8" name="Rectangle 19"/>
            <p:cNvSpPr/>
            <p:nvPr/>
          </p:nvSpPr>
          <p:spPr>
            <a:xfrm>
              <a:off x="3581280" y="3808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</a:t>
              </a:r>
              <a:r>
                <a:rPr b="1" lang="en-US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6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79" name="AutoShape 57"/>
          <p:cNvSpPr/>
          <p:nvPr/>
        </p:nvSpPr>
        <p:spPr>
          <a:xfrm>
            <a:off x="457200" y="1828800"/>
            <a:ext cx="62485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THIẾT LẬP HỆ THỐNG ĐÁNH GIÁ (tt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9:19:05Z</dcterms:created>
  <dc:creator>TUAN HANH</dc:creator>
  <dc:description/>
  <dc:language>en-US</dc:language>
  <cp:lastModifiedBy>TUAN HANH</cp:lastModifiedBy>
  <dcterms:modified xsi:type="dcterms:W3CDTF">2010-05-04T08:32:2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